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200D-F7A7-4FF9-B8D1-076B7514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0489-9A21-41E1-9BEA-AF2B1517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04CA-7881-42C5-B28F-9974A27B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A8F5-B577-47F7-AB67-E57565343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14A3-D2C9-48BA-AA63-D6EE17F0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A5A7-C07B-418C-A592-219A7090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A20A-D2EC-4877-AED3-66A215C1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F488-C2FB-483B-99F7-E96A350A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E2A3-CAD3-4ADC-99D0-AFF0FB95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318F-F5C8-417A-BC32-53BF04E1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FFBB-D1ED-4302-91A4-534694FC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B8DE-F875-40A1-B1B9-6E6A5DF4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30FC-65F6-44FD-ADF1-2C8AB257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7480-E555-43CA-97AB-1CCDA741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1B57-71C6-46F9-A524-1250CA4E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6E10-ED5B-4863-B468-CD9EC219F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B48A-82AE-4C27-9242-09699211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D4B7-EB8D-41A1-8B58-CC1E75B0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CA6A-1F89-4B85-97C0-3FB54429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E342-CDDC-47C3-A940-F3CDF65B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03AF-36BB-4FE9-8C7E-18E68872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D297-A2E0-45FF-9141-597191E4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EEF4-0BD3-4F94-B48C-A0DD7A6C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2B34-769C-452A-9A43-B7F99FAD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97D2-3EBC-4C3A-8598-C103CA61171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1FCB-EB62-4628-A817-2D2E6F664EE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3B9C-8316-4D46-9B08-933C8AC47B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9898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Privacy in Medical Settings vis-à-vis- PLHIV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33360" y="2322360"/>
            <a:ext cx="5105160" cy="12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June 20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LC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371600" y="4255920"/>
            <a:ext cx="64008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19EF-EE6C-4995-B59A-250256DEB0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patient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Diagnose and counsel patient about HIV and advise an HIV test (</a:t>
            </a:r>
            <a:r>
              <a:rPr b="0" i="1" lang="en-GB" sz="2700" spc="-1" strike="noStrike">
                <a:solidFill>
                  <a:srgbClr val="ffffff"/>
                </a:solidFill>
                <a:latin typeface="Times New Roman"/>
              </a:rPr>
              <a:t>BT v. Oei</a:t>
            </a: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to disclose HIV status (</a:t>
            </a:r>
            <a:r>
              <a:rPr b="0" i="1" lang="en-GB" sz="2600" spc="-1" strike="noStrike">
                <a:solidFill>
                  <a:srgbClr val="ffffff"/>
                </a:solidFill>
                <a:latin typeface="Times New Roman"/>
              </a:rPr>
              <a:t>Reisner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non-identifiable third persons/sexual partners: Disclose HIV status to patient, warn him of its risk to others and how to prevent transmission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Reisner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37 Cal. Rptr. 2d 518 (1995)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BT v. Oei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[1999] NSWSC 10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65B7-0E42-4A8C-8D2C-926724D505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Duty to warn wife or prospective wife arises as the fundamental right of wife to lead a healthy life outweighs the fundamental right of PLHIV to confidentiality and privacy.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X v. Hospital Z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, (1998) 8 SCC 29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Right to marry suspended. Subsequently restored vide </a:t>
            </a:r>
            <a:r>
              <a:rPr b="0" i="1" lang="en-GB" sz="2900" spc="-1" strike="noStrike">
                <a:solidFill>
                  <a:srgbClr val="ffffff"/>
                </a:solidFill>
                <a:latin typeface="Tahoma"/>
              </a:rPr>
              <a:t>X. v. Hospital Z</a:t>
            </a: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, (2003) 1 SCC 500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dbbd71"/>
                </a:solidFill>
                <a:uFillTx/>
                <a:latin typeface="Arial"/>
              </a:rPr>
              <a:t>DISCRIMINATORY PRACTICES ARISING OUT OF BREACH OF CONFIDENTIALITY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cal Confidenti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stigmatisation/isolation from com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loss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termination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allowed  to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future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gmatisation/isolation from co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3013-AFCD-475E-8196-E78B2A4A0B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T WORKPLAC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tests generally carried out to determine fitness of employe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ctor bound to maintain confidentiality of employee examin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details, including HIV status, need not be disclosed; only fitness is required to be disclo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sclosure of other details permissible onl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determine fitness of employ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maintain a safe working enviro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protect the employee concern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t time of recruitment, a person is not bound to disclose HIV status unless required by law to do 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AIR 1997 Bom 4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National Policy on HIV/AIDS and the World of Work</a:t>
            </a: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Ministry of Labour and Employment 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There is no justification for asking job applicants or workers to disclose HIV-related personal information. Nor should co-workers be obliged to reveal personal information about fellow workers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Personal data covered by medical confidentiality should be stored only by personnel bound by rules on medical secrecy and should be maintained apart from all other personal data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In case of medical examination, the employer should be informed only of the conclusion relevant to the particular employment decision. The conclusions should contain no information of a medical nature. They might as appropriate, indicate fitness for the proposed assignment or specify the kinds of jobs and the conditions of work which are medically contra-indicated, either temporarily or permanently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A556-A94A-4F0E-AC95-11F46B3DAC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nfidentiality and RTI Act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confidentiality required to be maintained of the medical records of a patient including a convict considering the Regulations framed by the Medical Council of India can not override the provisions of the Right to Information Act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r. Surupsingh Hrya Naik Vs. State of Maharashtra AIR2007Bom1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edical reports under RTI Ac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erson’s HIV status is confidential and is protected in law and can only be disclosed to a third person in limited circumstances. The RTI Act specifically exempts the disclosure of personal information which is not of public interest; information which would cause an unwarranted invasion of privacy; and information which has been received in a fiduciary capacity. Therefore, The RTI Act, 2005 cannot be used to obtain a person’s HIV repor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the Courts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ection and promotion of fundamental rights and dignity of PLHIV’s is critical to HIV/AIDS prevention and control strateg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face injustices on many fronts and are often are afraid to go to court to vindicate their rights thereby violating their right to equal protection of law and due proc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ression of identity, whereby a person can litigate under a pseudonym, is a beneficent litigation strategy, long established in the area of family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can now apply for suppression orders and seek justice without the fear of HIV status becoming public knowledge. [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IR 1997 Bom 406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ACD2-6007-4887-A49E-CC8467A8BB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MEDI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8487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ivil sui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civil courts)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uty + breach of confidentiality + injur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onsumer complain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District/State/ National Consumer Commissions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eficiency of servic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/ compen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Writ petition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High Court under Article 226 and Supreme Court under Article 32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use of action: violation of right to life and personal liberty or other fundamental righ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Compensation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RIGHTS-BASED APPROACH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Paradoxically enough, the only way in which we will deal effectively with the rapid spread of HIV/AIDS is by respecting and protecting the rights of those already exposed to it and those most at risk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Justice Michael Kir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ormer Judge of High Court of Austral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bbd71"/>
                </a:solidFill>
                <a:latin typeface="Arial"/>
              </a:rPr>
              <a:t>THE  LEGAL  RESPONSE ..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nerally there have been two types of legal responses to the HIV epidemic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responses are diametrically oppos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can be termed as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sol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 and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ntegr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Times New Roman"/>
                <a:ea typeface="ＭＳ Ｐゴシック"/>
              </a:rPr>
              <a:t>RIGHTS IN HIV/A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85800" y="1752480"/>
            <a:ext cx="7696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egal and other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discrimin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sol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, ha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mandatory 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breach confidential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rive the epidemic undergrou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ws and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ntegr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encourage them to avail of servi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which are available and therefore help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curb the spread of HI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LAW ON HIV/AIDS IN INDIA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central or state law specifically on HIV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raft law on HIV/AIDS is pending with the Union Health Ministr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ly, persons living with HIV whose rights are violated take recourse to provisions in the Constitution and other general laws (employment law, family law, et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icies and Guidelines by National AIDS Control Organi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7B9D-DFA7-42E3-AE62-9DA607EC8F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r>
              <a:rPr b="0" i="1" lang="en-US" sz="32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formation gathered during counseling must not be shared with others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sults to be  reported only to the client unless the client states the desire to share the test result with a family member, partner or close friend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IV status and other health information can be shared amongst the  health care providers treating the person to ensure that he receives better treatment and car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person with HIV has the right to privacy, and also the right to exercise informed consent in all decisions about disclosure in respect of his/her statu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865A-61AB-489F-8E4C-E72F7E5F2D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the consent of the person, Counselor can inform the nurse or the operating physician. The disclosed information must be kept confidential by the attending hospital staf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HIV-positive person should be encouraged through counselling to disclose his status to his/her spouse or partner and bring the spouse or partner for counselling to an ICT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fter repeated visits the counsellor feels that the client is not ready to share his/her status and the regular sexual partner of the client is deemed to be at risk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partner can be notified of the person's positive stat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This communication with the partner should be, without exception, in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ce-to-face sett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472A-F8AB-40B2-B823-B25DB353C5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Duty to warn third party/ partner  arises when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resence of a special relationship, e.g. doctor and patient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mminent risk of danger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Forseeable person who is endangered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Tarasoff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 Cal. 3d 425 (197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203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C639-BACE-4E60-B401-76B48C439B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arises when doctor fails to properly advise his patient, who is exposed to a communicable disease, and the patient relying, upon his advice, spreads the disease to a third party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Di Marco v. Lynch Homes-Chester Coun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583 A.2d 422 (1990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tu</cp:lastModifiedBy>
  <dcterms:modified xsi:type="dcterms:W3CDTF">2012-06-29T11:37:26Z</dcterms:modified>
  <cp:revision>38</cp:revision>
  <dc:subject/>
  <dc:title>PowerPoint Presentation</dc:title>
</cp:coreProperties>
</file>